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DDC-AE09-43AF-97CC-6F3B9E74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AFF-937B-4EDC-BADD-0A24F536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3F6-CBAD-4E9C-9564-800C3C4D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290-B657-47BD-995F-A965FE5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6C7-40FA-4E42-99D5-62EB629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77E-D47C-4703-B46D-6D41D02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AA2-229C-42EE-BC5A-0F2015F0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A3E-9042-4EBF-8804-ED98B159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D5F-B3F7-4BBA-8D70-53FB577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58D-05D2-4442-AA16-DA66A48D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20D-179E-4294-B6C4-197234F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E79-D038-44FD-83E4-B7F53BF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7FA5-09BD-4DDF-A979-BD7A2E11EB20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05720" y="6125400"/>
            <a:ext cx="400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3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160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declared the birth of the German Empire after defeating France in 1871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1938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One of the most notable figures from the Crimean War was this British field nurs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6417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For helping Piedmont-Sardinia fight an 1859 war against Austria, France gained these territori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86080" y="14320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0415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899 colonial war featured Britain fighting Dutch Afrikaners in South Afric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economic system of early modern Europe sought a self-sufficient national econom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cottish </a:t>
            </a:r>
            <a:r>
              <a:rPr b="1" i="1" lang="en-US" sz="3000" spc="-1" strike="noStrike">
                <a:solidFill>
                  <a:srgbClr val="fcf305"/>
                </a:solidFill>
                <a:latin typeface="Times New Roman"/>
              </a:rPr>
              <a:t>philosophe</a:t>
            </a: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 used the metaphor of the "invisible hand" to describe the natural law of economic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French socialist Louis Blanc was influential in establishing these during the Revolution of 1848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81296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t was the economic system used by fascist leaders Mussolini and Hitle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363600" y="2041200"/>
            <a:ext cx="847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20th century British economist called for deficit spending during times of economic hardship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ended his famous manifesto by calling for "Workers of the world, unite!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…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electrician was elected president of Poland in 198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the years following the Napoleonic Wars, these British workers were known for smashing industrial machinery and farm equipmen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11788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British working class group of the 1830s and 1840s called for pay for members of Parliament and universal male suffrag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1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 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workers who seized control of Paris in 1871 were known by this na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French queen lost her head in the Reign of Terro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7366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She crushed Pugachev's Rebellion in Russi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woman of Florentine ancestry was behind the St. Bartholomew's Day Massac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French scientist was influential in the discovery of radi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long with Karl Liebknecht, this woman was a leader of the 1919 Spartacist Revolt in German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25280"/>
            <a:ext cx="2209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286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SALON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nlightenment</a:t>
            </a:r>
            <a:endParaRPr b="0" lang="en-US" sz="1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 of the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th Century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conomic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ker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mou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me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THOMAS HOBB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VINDICATION OF THE RIGHTS OF WOMA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25280"/>
            <a:ext cx="2209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DE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IMMANUEL KAN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NAPOLEONIC WAR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252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 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OTTO VON BISMARCK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LORENCE NIGHTINGAL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NICE and SAVOY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BOER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25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 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MERCANTAL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Usually hosted by aristocratic women, these gatherings often featured writers, playwrights, artists, scientists and political thinker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5280"/>
            <a:ext cx="22860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DAM SMITH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NATIONAL WORKSHOP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CORPORAT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438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JOHN MAYNARD KEYN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KARL MAR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ECH WALES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ere the LUDDIT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ere the CHARTIS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COMMUNARD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ARIE ANTOINET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25280"/>
            <a:ext cx="22860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his book </a:t>
            </a:r>
            <a:r>
              <a:rPr b="1" i="1" lang="en-US" sz="3000" spc="-1" strike="noStrike">
                <a:solidFill>
                  <a:srgbClr val="fcf305"/>
                </a:solidFill>
                <a:latin typeface="Times New Roman"/>
              </a:rPr>
              <a:t>Leviathan</a:t>
            </a: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, he argued that life for man was "solitary, nasty, brutish and short.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CATHERINE THE GREA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CATHERINE DE MEDICI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ARIE CURI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ROSA LUXEMBURG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 History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6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98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1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412080"/>
            <a:ext cx="3962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The sculpture pictured here was the work of this Baroque artist.</a:t>
            </a:r>
            <a:endParaRPr b="0" lang="en-US" sz="35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69064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Bernini.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98108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this book Mary Wollstonecraft argued that women needed a primary education in order to participate in the political proces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5280"/>
            <a:ext cx="27432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philosophical movement believed that God created the universe, but acted as an absentee landlord in its day-to-day maintena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5280"/>
            <a:ext cx="25146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76520" y="2117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German philosopher wrote "Dare to Know!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se wars ended with the decisive Battle of Waterloo (1815) and the exile of a celebrated Corsican general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Danielle Walters</cp:lastModifiedBy>
  <cp:lastPrinted>2002-11-04T22:12:16Z</cp:lastPrinted>
  <dcterms:modified xsi:type="dcterms:W3CDTF">2005-04-29T02:12:23Z</dcterms:modified>
  <cp:revision>477</cp:revision>
  <dc:subject/>
  <dc:title>No Slide Title</dc:title>
</cp:coreProperties>
</file>